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6058-BE8F-4C45-82C7-BBE38AB5B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1CA3-0FAB-4F28-A59E-964D3CA7618A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3D27-BCDA-40EB-9564-F3E08EBD1D75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910F-6D49-4834-87F2-AD02D3F6EB4D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F741-3FF0-479D-AD78-D1032D6659A2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5493-DFD0-421E-ABEC-D08F7EDC5E8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70D4-0A8A-4BF2-9C8A-DAB0DCFC658B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FFA2-CADA-431E-A444-7AE78A5E6503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DEA6-84BD-44B1-B9AB-4C5B0D287C48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BA2E-EA3E-4EE7-BBF9-3CFACDB2558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1DE0-F7F5-41A3-B0C1-A92908BCA0BE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6E9C-90D6-4F65-9312-1BF9938ADC86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1FEB-A419-4B10-A228-932606F1F551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D7DF-C454-4609-BCEB-1338CD714463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19F-20CA-4346-96AE-C053901501FC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1FCB-6368-4E91-8373-4B12B997F9E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9300-EE98-41DA-830C-2020E85432E4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4C90-0856-48DE-85E4-3EB61CE04750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71CF-D5C7-4C6B-B180-8EC2C50C1349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23E9-BC02-466B-B87E-65BD108E4C0B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B88-E15B-43C2-80D4-82116482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73C-FA54-43D5-BA04-29E33C10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9A0-986E-401D-947B-31299DCB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C19-F597-4B03-B724-E5EC9256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DB73-5519-4557-A2C3-A78FAFDB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60D5-811F-4EC1-8220-9ED8108B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C4A3-6544-48F4-B009-EA9D8B5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6FA2-9E38-468E-94E9-7B4D7356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9BD1-975E-4E9C-A2E5-C099BFA5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4481-1ECC-460B-A23E-A91B66EC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58D5-69F3-4756-9399-C5173B9F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2C8-8C2F-4373-836B-3F2F1127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EDB5-F730-492E-92B8-9059609E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CC70-3AE5-42B6-9B04-5D14047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3D5F-280E-47EF-9A89-093FEA2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CC31-D3F6-4F07-A7F8-799A6DA3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6DCA-FDD2-413C-952D-47E59913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4CD-C5D1-43CC-BCC5-CDC36CB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383-4E63-4D35-BE22-9344164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67C-D3AF-4E65-9CA1-AC2E38F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D49-A6FC-415A-962D-92FAB5B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817-24B7-4BF6-9F5C-C82F8B04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D5F-A3E0-48C8-8ED9-1FAC81D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EF6-E8AD-4F36-84DD-FC228CEC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201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202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203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04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205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206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207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208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209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210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211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212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213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214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215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216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217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18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9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0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21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22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23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24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25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26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27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228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229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230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231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28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26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26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26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26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26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27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27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27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27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27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27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27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27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27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27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8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28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28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8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28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28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28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28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28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C243-3AC4-45EC-93E3-9E4BBDDBA25C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0C68-9E50-4BFE-97A4-500479D0D67E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READING FLU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Literacy Links Found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Mary Baile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2703240" cy="60642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5"/>
          <p:cNvSpPr/>
          <p:nvPr/>
        </p:nvSpPr>
        <p:spPr>
          <a:xfrm>
            <a:off x="5029200" y="4648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Hudson, R., Pullen, P.,  Lane, H., Torgesen, J. (2009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Schools, grade levels, and teachers that are not producing strong growth in phonemic awareness, phonics, and </a:t>
            </a:r>
            <a:r>
              <a:rPr b="1" i="1" lang="en-US" sz="36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 in their students are not likely to show strong gains on measures of reading comprehension.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                               Torgesen, 2005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pecifically, schools must provide…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ore powerful instruction toward mastery of the alphabetic principal by the end of first grad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ronger support for the growth of reading fluency in first and second grad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04176"/>
                </a:solidFill>
                <a:latin typeface="Arial"/>
              </a:rPr>
              <a:t>What activities do you use in your classroom to help your students develop their fluency skill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Instru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Model fluent read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ad to your students dail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tape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computer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Have students practice re-reading the same tex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Instru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Use repeated reading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Student-adult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Partner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Choral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Tape/computer-assisted read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83ad"/>
                </a:solidFill>
                <a:latin typeface="Arial"/>
              </a:rPr>
              <a:t>Reader’s theatr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 Practi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ssages should be relatively shor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 should be reasonably easy for stude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447920" y="3809880"/>
          <a:ext cx="6095880" cy="2551320"/>
        </p:xfrm>
        <a:graphic>
          <a:graphicData uri="http://schemas.openxmlformats.org/drawingml/2006/table">
            <a:tbl>
              <a:tblPr/>
              <a:tblGrid>
                <a:gridCol w="1981080"/>
                <a:gridCol w="2082960"/>
                <a:gridCol w="203184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Independent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Instructiona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Frustration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vel</a:t>
                      </a:r>
                      <a:endParaRPr b="0" lang="en-US" sz="23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6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 in 2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95% accurac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1 in 1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90% accurac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More than 1 in 10 words difficult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Less than 90%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Monitor Progres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elps determine the effectiveness of instruction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elps to set instructional goal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Is motivating to student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imed Reading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Select passage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Have students read passage for 1 minute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Count number of words read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Subtract the number of error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Graph WCPM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176"/>
                </a:solidFill>
                <a:latin typeface="Arial"/>
              </a:rPr>
              <a:t>With greater fluency, readers can concentrate on comprehending what they read, develop greater self confidence, and enjoy reading more.</a:t>
            </a:r>
            <a:br>
              <a:rPr sz="40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Gilbert &amp; Temple, 1994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is the ability to read a text accurately and quickly with prosody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Do </a:t>
            </a:r>
            <a:r>
              <a:rPr b="1" i="1" lang="en-US" sz="5400" spc="-1" strike="noStrike">
                <a:solidFill>
                  <a:srgbClr val="404176"/>
                </a:solidFill>
                <a:latin typeface="Arial"/>
              </a:rPr>
              <a:t>you</a:t>
            </a: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 read all text fluently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Why is reading fluently important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is important because it provides a bridge between word recognition and comprehension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Less Fluent Reade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ust focus their attention primarily on decoding individual words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ave little attention left for comprehending the the tex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More Fluent Reade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cus attention on making connections among the ideas in the text and their background knowledg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ble to focus on comprehens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404176"/>
                </a:solidFill>
                <a:latin typeface="Arial"/>
              </a:rPr>
              <a:t>Why might your students have difficulty with reading fluency?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176"/>
                </a:solidFill>
                <a:latin typeface="Arial"/>
              </a:rPr>
              <a:t>Prerequisite Skills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Letter familiarity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Knowledge of alphabetic principle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erequisite Skil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Arial"/>
              </a:rPr>
              <a:t>Fluency is also dependent on the reader’s vocabulary skills. Students must connect with the syntactical and meaning aspects of words.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4:50:10Z</dcterms:created>
  <dc:creator>Maryk</dc:creator>
  <dc:description/>
  <dc:language>en-US</dc:language>
  <cp:lastModifiedBy>ECSD</cp:lastModifiedBy>
  <dcterms:modified xsi:type="dcterms:W3CDTF">2010-04-16T17:30:56Z</dcterms:modified>
  <cp:revision>12</cp:revision>
  <dc:subject/>
  <dc:title>READING FLUENCY</dc:title>
</cp:coreProperties>
</file>